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8B8B-CC71-4FEB-9748-F0AC7E41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rgosymedical.com/Diges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picture-of-the-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rbsandmore.com/2012/02/digestive-problems-acid-reflux-is-vanquished-with-alkaline-w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healthnative.com/diet-for-peptic-ulc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udyblue.com/notes/note/n/392--digestive-system-catabolize-macromolecs/deck/2596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v/animal-nutrition/holozoic-nutri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positphotos.com/10073266/stock-illustration-Digestive-Sy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3/057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zadehmd.com/parotid-salivary-gland-surgery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-forums.com/index.php?topic=576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heartguts.com/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094-B8FC-47DF-BCEE-6FED274B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F11-D800-4F8B-B0CF-768A711C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045-1A94-4BE5-B0CD-C3E39632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729-D6E5-4158-BEFF-45901B10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A6D-F5C5-435B-A5F6-F0672BC5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C5A-BBEC-479F-957F-1FB3B6BF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574-DDD7-4027-B2BD-23756BC2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8A1-B44A-4261-9A2C-57AFA841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715-2227-4230-A43B-95277C6A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83D-EF2E-49B2-BA32-9D99207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1D8-6741-43FC-83DF-B3F3098B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C84-0BD0-44E7-BF60-EDEFDF1A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5558-4CD9-4CB4-B4B4-FA54E62CD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imations.3d4medical.com/Peristalsis-animation_AN2441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3,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s relea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sin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d by aci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igests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us be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67080" y="2081160"/>
            <a:ext cx="44197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e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920" y="1981080"/>
            <a:ext cx="412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 Ul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51240" y="1981080"/>
            <a:ext cx="424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celled 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fish, flatworms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ovascular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38480" y="2424240"/>
            <a:ext cx="48006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tract with two op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wo openings better than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502000"/>
            <a:ext cx="3809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71880" y="16765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in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igestion with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 contains enzy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yl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igests st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 helps with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95680" y="237024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sopha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glot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oses over the trachea during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ood moves to stomach du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imations.3d4medical.com/Peristalsis-animation_AN244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612880"/>
            <a:ext cx="38098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cters control movement of food in &amp; out of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contains enzymes, acid, and 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1616040"/>
            <a:ext cx="44197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14:23:53Z</dcterms:created>
  <dc:creator>rubina khan</dc:creator>
  <dc:description/>
  <dc:language>en-US</dc:language>
  <cp:lastModifiedBy>rubina khan</cp:lastModifiedBy>
  <dcterms:modified xsi:type="dcterms:W3CDTF">2013-05-02T14:59:41Z</dcterms:modified>
  <cp:revision>17</cp:revision>
  <dc:subject/>
  <dc:title>PowerPoint Presentation</dc:title>
</cp:coreProperties>
</file>